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F6FF-D571-4905-BE76-12273CAE3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DD79-8248-4290-A9F3-F58BA4666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A4B0-781C-46AF-A564-88F47D44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961C-3460-4694-8C42-9EF89370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9EB-B182-4B14-AF64-17AF6ADC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2BC-FBB8-4D01-8001-F207F00F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CB66-2538-42E4-B7AC-45703EF0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ACEE-AAF1-4A66-ABA2-96510427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EF35-A771-4856-9195-37CED150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D4E-8348-4AC9-B40C-54DEDC0D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763-D900-4D73-B283-964F8043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1E72-7B02-40AE-A19B-91B78C00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BBD3-5591-4C4E-BE51-40AE9816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A22-13D4-451D-AC5C-40D17606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9CA1-C96C-452D-B3D4-2A9F35471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athy Hum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athy Humal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athy Humal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athy Humala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47772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419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8288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Kathy. Yo vivo en New York. Tengo catorce años. Yo tengo dos hermanas y un hermano. Yo soy joven. Mi gusta jugar muchos deportes y tambien mi gusta comer mucho.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510228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5102280"/>
            <a:ext cx="536760" cy="785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609480" y="5334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5181480"/>
            <a:ext cx="439560" cy="6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Vamos en la manana para pasar todo la dia junt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amiga cuando y dond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s pues claro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Que tal amiga y si yo voy con usted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e deporte quieren jugar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C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ieren ir a jugar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91440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4:55:43Z</dcterms:modified>
  <cp:revision>109</cp:revision>
  <dc:subject/>
  <dc:title>Profile</dc:title>
</cp:coreProperties>
</file>